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ct" ContentType="image/x-pict"/>
  <Override PartName="/ppt/media/image21.jpeg" ContentType="image/jpeg"/>
  <Override PartName="/ppt/media/image5.jpeg" ContentType="image/jpeg"/>
  <Override PartName="/ppt/media/image23.pct" ContentType="image/x-pict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30.png" ContentType="image/png"/>
  <Override PartName="/ppt/media/image11.png" ContentType="image/png"/>
  <Override PartName="/ppt/media/image9.pct" ContentType="image/x-pict"/>
  <Override PartName="/ppt/media/image4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3.pct" ContentType="image/x-pict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5.png" ContentType="image/png"/>
  <Override PartName="/ppt/media/image22.pct" ContentType="image/x-pict"/>
  <Override PartName="/ppt/media/image24.pct" ContentType="image/x-pict"/>
  <Override PartName="/ppt/media/image27.pct" ContentType="image/x-pict"/>
  <Override PartName="/ppt/media/image28.pct" ContentType="image/x-pict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7F0F-FF09-44E5-BA43-EC32EC3CD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2701-CF6B-4DC0-9EC4-30DC0F603D31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91C1-34BA-468A-A79F-FBA46FBE4E96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514C-EC39-4EAC-9001-FBE05660AED2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your freedoms under the 1st ame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602B-6E93-4AEE-BD98-1E3E0E6429F3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DA3A-51CB-4C7C-8847-55607EFB863D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7C70-9AA2-40CE-95F9-229A2915FD70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969C-95E0-4B94-98A8-0D7374B785DA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C676-E810-491B-970F-7D698882CBFE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F84-802F-4BE5-BE4C-6417D3B4FF25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5F8-3FA3-40AF-9E06-BBC2C4D3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48D-FE57-4AAB-AD4A-C2DABA5C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44B-4C13-42F7-9153-2259C54D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04E-4503-41F8-AC66-6C1235D9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F52D-58FF-41F9-9531-FB8EAEF4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ADE0-148A-44AD-BE8F-09EFCC54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E843-A748-4FA1-A092-44E6C24F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64A1-8001-4798-826D-0460A4B0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6FDE-B906-4F4D-BF56-7C4FFAE3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15A8-B9C4-4359-BE83-F4B9B32C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919F-3078-48C7-BFCA-B83EAF9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20B-0DD3-4AE0-9EEB-18190F65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7A2A-FF3B-4D67-A77E-24AAC93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2C16-ACFB-4DC8-9DF0-08720A8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5253-74B0-495F-8C1E-2A98543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8003-5547-4CCC-A0AC-19649463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36D6-C7FC-4083-914B-0C7DFC5B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0FC1-CA43-413B-8FE1-220EEC0D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3942-23C7-4F87-AF71-C93C9AE5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514E-8834-4766-B6EB-43CE306E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7974-7639-4DDE-9B5B-A5FA9673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D0CE-3B04-4606-B362-BB318C2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E35-D975-4F57-A345-27C98948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9E87-9E44-4601-9D5C-AC977C9C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5317-89FA-4B3E-93A7-9FAC392C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A783-E873-49FB-B5C0-7904C674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6DDB-E981-4553-A6C8-33314E6F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E8A6-8BE1-43C0-92F1-B7C5C61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A047-B158-488E-9D93-81D4CE13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6FE64-824F-49AB-8A6F-8EDFDCA2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4C2F-183E-4E6F-BC28-3A9E5FF7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E111-1CC8-41CD-9D12-55BEF8F1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94501-C344-40AB-92E6-91DD7E45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B18-6468-4930-8536-85F8E6DE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1EA22-0D89-4259-A1EB-32116F14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B0B1-9CAA-452B-977B-56A8785F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41334-AEB5-4D87-934A-2A851139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2FC0-BAC3-4396-9D71-FD4644B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5A76-6209-4C7D-9F66-6E078F10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EA18-7C09-43BD-9B7F-0689554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EBC3-8DDA-4207-AF1C-CC84754B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15F0-0B61-43B6-A131-92A50FB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6D88-E3F9-4D1E-9FFA-D2E5630A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9653-23ED-42D7-84DB-B97A2688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4A8-3FF6-4E57-AEC6-409264C8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F2765-38F6-40FB-92CF-57E4A667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C62E1-D205-4DCA-898A-D4A8FBE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418F1-F539-4A5A-866B-CEC066F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BC5A-BC6C-4A52-A0D3-4C4709F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A2276-0CAE-4CB7-8988-868CF528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B511E-4447-4CBC-8169-B940442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CB6B-E1CD-4E3A-8696-99048B02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A635-2C41-4129-A2C2-4DF5EE4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19913-C2D5-4157-81E2-4DA4F376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DEADF-2DF0-4739-BD59-148DA1C6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16E-3BCE-4FC0-8DA0-4C52831B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AB751-49A1-4715-A689-D26A3BCC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D5893-9FAF-4074-AC53-4B3A2906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7C257-B13F-4609-8D67-2DF439B5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D95B9-70DD-466B-B962-3A941F89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8713B-F99D-4E30-A0AE-EF2A4D9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66999-91E1-412A-98C7-24821871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B5793-ADAF-40D1-8D19-491D5377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18E8-C0A2-481E-925E-4D25BF43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AABFD-9488-4FB4-A94C-BEE9890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2891-4EDF-4FC8-B091-4CE9B13C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CA6-30E2-4582-A749-9727485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1B2BD-D812-49DF-B285-E85A8CD5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1D408-7421-4EFF-A6E3-7D1777D2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992B-90E1-4D0B-A05F-57E37BBA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6FADD-45AE-411F-9658-6E97A8A0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8CD32-13CC-49EE-BB1D-0D49A858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FB3D4-AD5A-4127-B8D5-408EC4E4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126A8-FB65-4074-8248-2A986B14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7150-2437-41D2-8F0C-CA89D6EF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20E76-AF24-4442-98FF-80F537D7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20200-EA12-4129-9628-52EC2414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CE6-A817-4458-9FCD-A9E26603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AB13F-A27C-466D-BE90-D1BE756F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5593F-7431-4665-A13A-61E483F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9C502-373B-4D64-A2CC-5720FEF8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E2DC-B266-4DAD-9B31-F51055EA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091FF-F254-499E-90EA-0058B30B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0F1-C8D8-4003-A8A3-CB6BF9E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C68-7AC2-4E08-89BC-55ED4FB3FBD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5809-5AF6-4959-B598-1565F0AF4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FCA2-56EB-481C-B11B-25EAD9915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3656-EBBD-49F0-B1F9-39D3F648E0E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4E40-C9D4-4743-B8D5-E8AF30754563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A060-8349-449F-9599-2659028EE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0A5E-19E0-479E-BAFD-0E093743BC9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ng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ct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arker Felt"/>
              </a:rPr>
              <a:t>US Civics and Governance</a:t>
            </a:r>
            <a:endParaRPr b="0" lang="en-US" sz="9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That’s Right!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Freedom to Assembl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merican Typewriter"/>
              </a:rPr>
              <a:t>What do each of these pictures demonstrate?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28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68360" cy="23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30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32" descr=""/>
          <p:cNvPicPr/>
          <p:nvPr/>
        </p:nvPicPr>
        <p:blipFill>
          <a:blip r:embed="rId4"/>
          <a:stretch/>
        </p:blipFill>
        <p:spPr>
          <a:xfrm>
            <a:off x="3505320" y="1676520"/>
            <a:ext cx="2244600" cy="27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33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3340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34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23065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Freedom of the Press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29" name="Picture 8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914400" y="15238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ulder"/>
              </a:rPr>
              <a:t>What do each of these pictures demonstrate?</a:t>
            </a:r>
            <a:endParaRPr b="0" lang="en-US" sz="60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3560" cy="3470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228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eck yes or no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156040" cy="17524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34290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Sign here to agree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5" name="Picture 8" descr="Picture 2"/>
          <p:cNvPicPr/>
          <p:nvPr/>
        </p:nvPicPr>
        <p:blipFill>
          <a:blip r:embed="rId3"/>
          <a:stretch/>
        </p:blipFill>
        <p:spPr>
          <a:xfrm>
            <a:off x="3505320" y="2590920"/>
            <a:ext cx="367668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Freedom to Petition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13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14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Text Box 16"/>
          <p:cNvSpPr/>
          <p:nvPr/>
        </p:nvSpPr>
        <p:spPr>
          <a:xfrm>
            <a:off x="1828800" y="380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R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lig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75248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A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ssemble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1752480" y="25146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tit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371600" y="3581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ress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1600200" y="4616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S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peech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5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7888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Subtitle 6" descr=""/>
          <p:cNvPicPr/>
          <p:nvPr/>
        </p:nvPicPr>
        <p:blipFill>
          <a:blip r:embed="rId2"/>
          <a:stretch/>
        </p:blipFill>
        <p:spPr>
          <a:xfrm>
            <a:off x="1365120" y="3730680"/>
            <a:ext cx="64137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What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Marker Felt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 amendment rights are depicted in each of these pictures?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93880" cy="2211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Picture 1"/>
          <p:cNvPicPr/>
          <p:nvPr/>
        </p:nvPicPr>
        <p:blipFill>
          <a:blip r:embed="rId3"/>
          <a:stretch/>
        </p:blipFill>
        <p:spPr>
          <a:xfrm>
            <a:off x="380880" y="388620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Picture 2"/>
          <p:cNvPicPr/>
          <p:nvPr/>
        </p:nvPicPr>
        <p:blipFill>
          <a:blip r:embed="rId4"/>
          <a:stretch/>
        </p:blipFill>
        <p:spPr>
          <a:xfrm>
            <a:off x="6019920" y="533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Picture 3"/>
          <p:cNvPicPr/>
          <p:nvPr/>
        </p:nvPicPr>
        <p:blipFill>
          <a:blip r:embed="rId5"/>
          <a:stretch/>
        </p:blipFill>
        <p:spPr>
          <a:xfrm>
            <a:off x="6324480" y="4114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That’s Right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reedom of Speech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09480" y="2361960"/>
            <a:ext cx="73152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What do each of these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ictures demonstrate?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1040" cy="233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095560" cy="221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2324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1520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Freedom of Religion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438280" y="19051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What do each of these pictures demonstrate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icture 6"/>
          <p:cNvPicPr/>
          <p:nvPr/>
        </p:nvPicPr>
        <p:blipFill>
          <a:blip r:embed="rId1"/>
          <a:stretch/>
        </p:blipFill>
        <p:spPr>
          <a:xfrm>
            <a:off x="2286000" y="3048120"/>
            <a:ext cx="5180040" cy="327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civil disobedience"/>
          <p:cNvPicPr/>
          <p:nvPr/>
        </p:nvPicPr>
        <p:blipFill>
          <a:blip r:embed="rId2"/>
          <a:stretch/>
        </p:blipFill>
        <p:spPr>
          <a:xfrm>
            <a:off x="304920" y="304920"/>
            <a:ext cx="2819160" cy="2361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ivil disobedience 2"/>
          <p:cNvPicPr/>
          <p:nvPr/>
        </p:nvPicPr>
        <p:blipFill>
          <a:blip r:embed="rId3"/>
          <a:stretch/>
        </p:blipFill>
        <p:spPr>
          <a:xfrm>
            <a:off x="6553080" y="380880"/>
            <a:ext cx="2210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7:56:58Z</dcterms:created>
  <dc:creator>Mary Lynn Coyne</dc:creator>
  <dc:description/>
  <dc:language>en-US</dc:language>
  <cp:lastModifiedBy>Brittany  Arnold</cp:lastModifiedBy>
  <dcterms:modified xsi:type="dcterms:W3CDTF">2012-04-18T16:16:46Z</dcterms:modified>
  <cp:revision>21</cp:revision>
  <dc:subject/>
  <dc:title>PowerPoint Presentation</dc:title>
</cp:coreProperties>
</file>