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1.jpeg" ContentType="image/jpeg"/>
  <Override PartName="/ppt/media/image5.jpeg" ContentType="image/jpeg"/>
  <Override PartName="/ppt/media/image23.pct" ContentType="image/x-pict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ct" ContentType="image/x-pict"/>
  <Override PartName="/ppt/media/image4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3.pct" ContentType="image/x-pict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5.png" ContentType="image/png"/>
  <Override PartName="/ppt/media/image22.pct" ContentType="image/x-pict"/>
  <Override PartName="/ppt/media/image24.pct" ContentType="image/x-pict"/>
  <Override PartName="/ppt/media/image27.pct" ContentType="image/x-pict"/>
  <Override PartName="/ppt/media/image28.pct" ContentType="image/x-pict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B57-9E06-4A37-8F9E-258A3612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FF05-654B-4F25-A7CD-A7B759793ABF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08D-EC4B-4C2D-8325-5A8A575A9815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91A4-FF92-4CAC-95EE-E1941C1E3C50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your freedoms under the 1st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92DC-E9D0-4D4C-AD80-54012E2CFF23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7654-BB71-4878-BE06-18D301F0C92E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BE2A-9EFD-493A-A7D3-B0FD79D39E9B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941-3EFC-465D-8ECC-AFDFBC7AB9F2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7332-8DA5-4857-BC5B-325A72E88AFF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1F4F-AB93-476B-B62C-0A13E74BE0B9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448-C36A-4D70-8C1E-07E8C6A2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C40-7DDC-4109-B9D7-E9D6D3B9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95D-7412-447A-A814-C73C6E3D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DC8-EDBA-464D-8675-E0656E02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84AF-E481-48AD-BDCC-E69461D3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ABF1-33BB-43CE-BB6C-07E05076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CED4-9595-4748-ADB2-5B3EA336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3BBC-1E78-4C8E-83BE-20FC71EB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CC7-319A-4AE7-9C71-5727C9D3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E998-C722-4C07-B22A-E81C24CF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5DC-E46E-4F42-B1B7-2BB34F7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D66-9EAF-49F3-8864-67E1889C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F00D-BAA5-47E5-BD95-6FA5682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EBBF-163B-4699-BC7C-1A96AAF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A592-134E-42A7-AEB0-741740BE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0AB3-3685-45ED-91AB-E087BE9F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2B57-8C14-4695-9DE2-8DB09663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AB3D-7A42-4AB4-BFDE-FA29C548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A219-E502-48B3-96A8-3D6389B4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7ECC-54CA-400D-A27B-0FDFD19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C3AC-19FB-4182-B9ED-72E3833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98E2-911A-4C1A-B700-24987FB9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3F0-C940-4D0C-8CF7-A59DF26F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CE94-B333-4E92-B883-163572A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296B-C79F-4C16-BD2A-F59B7E7E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6EC0-1642-47F0-83DC-51B1C89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96F7-0ED5-4720-90FB-4AEF09A9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EC4F-A506-4BF8-9EEF-22E1872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AD90-AE78-4F70-87C8-44A4410F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C6D1-0E52-4872-A6C2-BE7F087A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E891-79E3-40D9-86DD-4EC82547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CF2F4-A55B-47BC-B6C5-150764C6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0E30-ECF0-49BA-AF04-99BECF40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051-A864-4B2B-BD3C-EACB4458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9E13-8DB4-4AFA-AA88-A7B0274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5A33-7689-439D-8589-19BACDB7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5AEA-53DA-44E5-86CB-ACCE898E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F00A-0981-4C24-8031-CAD4784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44E4C-B311-4978-9280-7129FAE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7687-7B4E-4693-96B9-563E7045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AC7C-815E-400D-B8C8-200AFFEC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4857-2DC0-49E9-9DB7-D1E6FF1F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958FD-92CD-4BAD-8001-7BF5FD04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E3FD3-C84D-4D08-A872-10352461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944-A13C-4259-B888-F8DE05A4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D9B3C-70E8-4AFF-B5BE-CEA981B2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A08E-26CC-4124-ADAD-1FCA2C4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0A700-CA27-412E-97A5-88F958C1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843C2-029A-418D-9078-100EF4F6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5598-FE25-4AE6-BE9E-BA696889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2812-4E63-4C20-841E-0CD0A456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83A62-63CB-42C1-AC82-C97E339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47C0-5942-465F-B2C9-D282F578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03F6-2C4D-4DE6-8317-7435380B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034AD-CF87-45E6-A646-10F275C5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9AD-0FA0-46E2-8838-4C211F54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D4967-326E-46C0-89B8-06C7B626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F19FD-A0A0-4474-837B-43833BB9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7B4D3-5C19-4370-A634-259C907F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F4F3D-D3A7-4474-B5C8-413E711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90F4C-9668-460C-8019-881912E9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6930-AC4D-4EDA-A76F-B438F3A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799FA-E51F-4391-B6DC-4774C80A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B6712-7CCB-4ABF-BFE5-42F9D644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4D05-655B-4484-882F-60E82AB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E6F74-D47D-464D-9BC1-870D88E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EB0-545E-4569-8600-BD35F69B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80D1E-0361-4222-85BB-D9DA01CC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B7409-066F-413E-8A21-8DDD6ADB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72083-0A0C-4A23-B1D4-B0E84AA4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0C04-4779-43C9-B4B7-2ED391A7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27B6F-C7DB-4EC5-BABF-B811E00A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562FA-9CBB-4744-85ED-B9271F65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6A4B8-BFC3-4D26-ABC2-601A41FA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452CB-7A1C-4B1D-BE6F-51E7C3F7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5A1F2-4DF7-4284-8356-5BFA79C0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04D0C-10BC-4A30-9B61-F04A69D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DDB-0E39-44D3-ABC5-E6096CF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DF23-7F9D-42C9-9D8A-06337CE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13243-0FF4-40FB-BC07-9F01DB7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0007-322E-406E-A4BF-80CA966C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A0330-AC1E-417F-8D3B-C3DE07AE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B0419-3DCB-4113-9B8F-E30C8933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B68-1B44-495C-B2F7-D4754CB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0E27-96A0-4FE8-9160-9947A6B98E3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09BE-E999-4043-8771-5DACE2822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BDF0-59C1-41B0-AEE8-8C4E91B3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CAB3-72B2-4F54-BCCA-47E12E6B846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0B13-FEA9-446C-84BC-F2E53ECC545E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0499-B401-4CFE-B706-DA8FCD6C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5AF6-B77F-4313-98DD-AAF559C25635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ng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arker Felt"/>
              </a:rPr>
              <a:t>US Civics and Governance</a:t>
            </a:r>
            <a:endParaRPr b="0" lang="en-US" sz="9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That’s Right!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Freedom to Assembl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merican Typewriter"/>
              </a:rPr>
              <a:t>What do each of these pictures demonstrate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28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68360" cy="23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30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32" descr=""/>
          <p:cNvPicPr/>
          <p:nvPr/>
        </p:nvPicPr>
        <p:blipFill>
          <a:blip r:embed="rId4"/>
          <a:stretch/>
        </p:blipFill>
        <p:spPr>
          <a:xfrm>
            <a:off x="3505320" y="1676520"/>
            <a:ext cx="2244600" cy="27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33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3340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34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3065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Freedom of the Press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29" name="Picture 8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914400" y="15238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ulder"/>
              </a:rPr>
              <a:t>What do each of these pictures demonstrate?</a:t>
            </a:r>
            <a:endParaRPr b="0" lang="en-US" sz="60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3560" cy="3470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eck yes or no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156040" cy="17524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Sign here to agree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5" name="Picture 8" descr="Picture 2"/>
          <p:cNvPicPr/>
          <p:nvPr/>
        </p:nvPicPr>
        <p:blipFill>
          <a:blip r:embed="rId3"/>
          <a:stretch/>
        </p:blipFill>
        <p:spPr>
          <a:xfrm>
            <a:off x="3505320" y="2590920"/>
            <a:ext cx="36766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Freedom to Petition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13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14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Text Box 16"/>
          <p:cNvSpPr/>
          <p:nvPr/>
        </p:nvSpPr>
        <p:spPr>
          <a:xfrm>
            <a:off x="1828800" y="380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lig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75248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A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ssemble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1752480" y="251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tit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371600" y="3581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ress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600200" y="4616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peech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5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7888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Subtitle 6" descr=""/>
          <p:cNvPicPr/>
          <p:nvPr/>
        </p:nvPicPr>
        <p:blipFill>
          <a:blip r:embed="rId2"/>
          <a:stretch/>
        </p:blipFill>
        <p:spPr>
          <a:xfrm>
            <a:off x="1365120" y="3730680"/>
            <a:ext cx="6413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What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Marker Felt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 amendment rights are depicted in each of these pictures?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93880" cy="2211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Picture 1"/>
          <p:cNvPicPr/>
          <p:nvPr/>
        </p:nvPicPr>
        <p:blipFill>
          <a:blip r:embed="rId3"/>
          <a:stretch/>
        </p:blipFill>
        <p:spPr>
          <a:xfrm>
            <a:off x="380880" y="388620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Picture 2"/>
          <p:cNvPicPr/>
          <p:nvPr/>
        </p:nvPicPr>
        <p:blipFill>
          <a:blip r:embed="rId4"/>
          <a:stretch/>
        </p:blipFill>
        <p:spPr>
          <a:xfrm>
            <a:off x="6019920" y="533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Picture 3"/>
          <p:cNvPicPr/>
          <p:nvPr/>
        </p:nvPicPr>
        <p:blipFill>
          <a:blip r:embed="rId5"/>
          <a:stretch/>
        </p:blipFill>
        <p:spPr>
          <a:xfrm>
            <a:off x="6324480" y="4114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That’s Right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reedom of Speech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73152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What do each of these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ictures demonstrate?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1040" cy="233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09556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2324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1520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Freedom of Religion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438280" y="19051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What do each of these pictures demonstrate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cture 6"/>
          <p:cNvPicPr/>
          <p:nvPr/>
        </p:nvPicPr>
        <p:blipFill>
          <a:blip r:embed="rId1"/>
          <a:stretch/>
        </p:blipFill>
        <p:spPr>
          <a:xfrm>
            <a:off x="2286000" y="3048120"/>
            <a:ext cx="5180040" cy="32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civil disobedience"/>
          <p:cNvPicPr/>
          <p:nvPr/>
        </p:nvPicPr>
        <p:blipFill>
          <a:blip r:embed="rId2"/>
          <a:stretch/>
        </p:blipFill>
        <p:spPr>
          <a:xfrm>
            <a:off x="304920" y="304920"/>
            <a:ext cx="2819160" cy="2361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ivil disobedience 2"/>
          <p:cNvPicPr/>
          <p:nvPr/>
        </p:nvPicPr>
        <p:blipFill>
          <a:blip r:embed="rId3"/>
          <a:stretch/>
        </p:blipFill>
        <p:spPr>
          <a:xfrm>
            <a:off x="6553080" y="38088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7:56:58Z</dcterms:created>
  <dc:creator>Mary Lynn Coyne</dc:creator>
  <dc:description/>
  <dc:language>en-US</dc:language>
  <cp:lastModifiedBy>Brittany  Arnold</cp:lastModifiedBy>
  <dcterms:modified xsi:type="dcterms:W3CDTF">2012-04-18T16:16:46Z</dcterms:modified>
  <cp:revision>21</cp:revision>
  <dc:subject/>
  <dc:title>PowerPoint Presentation</dc:title>
</cp:coreProperties>
</file>