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ct" ContentType="image/x-pict"/>
  <Override PartName="/ppt/media/image21.jpeg" ContentType="image/jpeg"/>
  <Override PartName="/ppt/media/image5.jpeg" ContentType="image/jpeg"/>
  <Override PartName="/ppt/media/image23.pct" ContentType="image/x-pict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30.png" ContentType="image/png"/>
  <Override PartName="/ppt/media/image11.png" ContentType="image/png"/>
  <Override PartName="/ppt/media/image9.pct" ContentType="image/x-pict"/>
  <Override PartName="/ppt/media/image4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3.png" ContentType="image/png"/>
  <Override PartName="/ppt/media/image14.png" ContentType="image/png"/>
  <Override PartName="/ppt/media/image15.png" ContentType="image/png"/>
  <Override PartName="/ppt/media/image13.pct" ContentType="image/x-pict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5.png" ContentType="image/png"/>
  <Override PartName="/ppt/media/image22.pct" ContentType="image/x-pict"/>
  <Override PartName="/ppt/media/image24.pct" ContentType="image/x-pict"/>
  <Override PartName="/ppt/media/image27.pct" ContentType="image/x-pict"/>
  <Override PartName="/ppt/media/image28.pct" ContentType="image/x-pict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8ADD-44DC-445B-81DA-85E3A2279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0CE1-4611-446D-8870-CA8680E2C526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B03B-44F8-4E84-BA39-FA5E8145F22D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0218-4069-494D-ADF6-23529816533E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your freedoms under the 1st amend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09DD-E274-41D5-92F5-A9102E821F5C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B294-7BA7-4EB6-A517-791B799ED5A2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8F57-C120-4CD4-B9A2-4FC7F81662EA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196A-0934-4998-BE34-B82C8CA5B736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F78A-7153-484C-9342-A1E3B6C2C77F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16D5-3F82-4516-9379-05755D6721CD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1916-6CC5-4660-B89C-60CCE1E2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0294-6469-4F7A-A7BE-F951E94D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CF1-7E34-464D-98B4-556A5328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7ED-92B6-4914-88CA-E90A2F18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0BE5-028F-4302-AA3C-8B84F547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D8EB-D64D-46EF-A8F9-2AE57481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7B62-B74C-42BF-8C62-8EBAA786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BC3E-6F52-4662-8A06-57ACBE7F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8041-1D21-4FFF-B360-6A59C54D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3CC2-04F5-4608-AFD1-E287B1B6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16DF-B5C7-45DB-AFF8-6A1A60C3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075-36E2-4572-AC17-A0C4917F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A785-7D28-4226-B040-708DC69E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6CD2-CC44-4AE7-9030-3361004D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CAE8-FFDE-4BF1-95ED-24AF721B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B6C6-8EED-4BE0-A8C9-3A219C1F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1CC4-3805-45EA-9192-FE92FCC7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8E87E-EA6E-4D55-957A-DA531637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C7AFC-5264-4254-829E-8248DD17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F4691-4F46-4FCB-B1A7-3D15B9FB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0D568-9689-4698-8610-E112101B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62DFE-4D0A-4CA1-A31D-04FF890B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5CC5-B548-4A77-9F50-A33E12D6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AE699-AF6B-46D0-A39E-D5F4A302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383F6-B1D6-4E46-BB76-BDBF687A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68EB9-039D-4ACC-B85F-18E57C18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FBB2D-A084-4F38-BD92-41554FE0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C4357-2415-4C0E-A925-E22B9E79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694F0-41CB-42E5-9CAD-3072597A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31077-8B08-4EFB-8300-5B1907ED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D08C6-E28C-4A36-AE5C-FA9A4AD5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6D4C5-2D66-425B-9B39-AAFA48DB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6632C-105B-4C8B-97FF-06DA7577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D1E-5DA4-4F25-9A49-A34BB3EA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16BC2-2D42-4AE3-87C3-852DCE21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252F9-DDA2-4D0F-B229-D8A2A066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D0D14-ED4B-41B6-913B-0E70603A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FE615-C9B0-4B9A-BC77-AD21CD1E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41233-B6AC-4EA8-8336-6EB4917E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1E9EC-6D5F-434B-9DFD-0A99D4EF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01B3D-2BE9-4F3C-9B21-F460B75F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EAA18-674C-4C08-A711-5D55A3B2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319CA-2CBF-4020-88E7-849F8E6B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1847A-3956-4828-B089-6948976D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7EE-F27B-4EAB-A178-8007BDD6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753B7-33C7-4B42-94E1-6C3EFE77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A71BE-C87F-4191-8F6C-497B6CE0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F6BB3-D7C2-4034-8725-7DBD2A43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FA9F0-BD1E-498F-819F-3E3E1EF6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E0A32-1393-4800-B99E-965F8292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A0804-82E4-4CDC-A19C-874A626F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21304-3CAD-4E73-A4C4-112D352E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4906E-25AA-4F8C-B586-F2D323AE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BB986-1BE9-4A5A-B637-99A14DCF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A4D0A-963F-4601-84BA-966A2C6D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C0EA-01B7-410F-B2F8-30D184AC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C9BED-C0D0-46EE-B77E-B53A26A6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B306E-7D27-4DDC-99BA-99569D31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222AB-C1DD-4ADA-8A5A-47F55E0E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3332F-F4B1-41C8-A656-B4F7FD58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1AB0A-022E-4DB7-B605-098BF028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4904C-2A71-4BB0-9AAF-877969F5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708A4-4F12-4887-8E97-236EAAA6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77F3C-4692-4678-88FD-5EFA5948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3A9DB-7092-4BBD-9BF3-B2973607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00BC6-A202-4485-97C4-44B835A8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2601-8E22-45FC-B88A-4C850269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163E3-84FE-47B8-81F3-760752A5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78F82-DDD4-464F-AC0A-175E43BE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EB6A0-46DF-41BE-9CE5-4589B690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90571-9BE1-4EA7-A1ED-E673619F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0169D-549C-4484-9E93-A8C97E33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AD614-E354-4378-95C7-6841416E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C8393-7CDC-4155-A74C-4C7B9E8B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65030-19EA-4E62-B61C-F44B551D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9CE58-C3B3-4A89-B112-2792B6DA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368EC-4216-4A15-AB09-40CB37F6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6C0B-1795-4FA8-8026-662F9829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02671-FD22-46DE-8EC1-050BB4BD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7244E-B8EE-457E-BAD3-030204A5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05E5E-E976-4AAC-AF3A-276037D7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7B844-434A-40B2-A554-6C371BBE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034E7-BE8D-4E83-B72B-B5E7D466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FD1C-4F24-4BA5-9C5E-3FE1248E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4EBA-9740-48CA-A8F1-8ACCFB6D569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0967-7A3A-4064-BABA-EDFBF762BF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59F8-9696-4B8E-8F20-4C7392764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CE41-63B1-40FB-91E5-6A88F41A1ADC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7BE9-77D0-4B36-863C-D20510E329D5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6FF3-9F90-4636-ABB2-9A1724CAF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4B14-2798-4CF0-9C86-3275954A4591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ct"/><Relationship Id="rId3" Type="http://schemas.openxmlformats.org/officeDocument/2006/relationships/image" Target="../media/image23.pct"/><Relationship Id="rId4" Type="http://schemas.openxmlformats.org/officeDocument/2006/relationships/image" Target="../media/image24.pct"/><Relationship Id="rId5" Type="http://schemas.openxmlformats.org/officeDocument/2006/relationships/image" Target="../media/image25.png"/><Relationship Id="rId6" Type="http://schemas.openxmlformats.org/officeDocument/2006/relationships/image" Target="../media/image26.pct"/><Relationship Id="rId7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ct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4724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Marker Felt"/>
              </a:rPr>
              <a:t>US Civics and Governance</a:t>
            </a:r>
            <a:endParaRPr b="0" lang="en-US" sz="9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066680" y="18284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That’s Right!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Freedom to Assemble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3352680" y="396252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486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merican Typewriter"/>
              </a:rPr>
              <a:t>What do each of these pictures demonstrate?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028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68360" cy="234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30" descr=""/>
          <p:cNvPicPr/>
          <p:nvPr/>
        </p:nvPicPr>
        <p:blipFill>
          <a:blip r:embed="rId3"/>
          <a:stretch/>
        </p:blipFill>
        <p:spPr>
          <a:xfrm>
            <a:off x="6400800" y="457200"/>
            <a:ext cx="1533600" cy="1676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32" descr=""/>
          <p:cNvPicPr/>
          <p:nvPr/>
        </p:nvPicPr>
        <p:blipFill>
          <a:blip r:embed="rId4"/>
          <a:stretch/>
        </p:blipFill>
        <p:spPr>
          <a:xfrm>
            <a:off x="3505320" y="1676520"/>
            <a:ext cx="2244600" cy="2741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33" descr=""/>
          <p:cNvPicPr/>
          <p:nvPr/>
        </p:nvPicPr>
        <p:blipFill>
          <a:blip r:embed="rId5"/>
          <a:stretch/>
        </p:blipFill>
        <p:spPr>
          <a:xfrm>
            <a:off x="6934320" y="4267080"/>
            <a:ext cx="173340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34" descr=""/>
          <p:cNvPicPr/>
          <p:nvPr/>
        </p:nvPicPr>
        <p:blipFill>
          <a:blip r:embed="rId6"/>
          <a:stretch/>
        </p:blipFill>
        <p:spPr>
          <a:xfrm>
            <a:off x="304920" y="4495680"/>
            <a:ext cx="23065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7"/>
          <p:cNvSpPr/>
          <p:nvPr/>
        </p:nvSpPr>
        <p:spPr>
          <a:xfrm>
            <a:off x="762120" y="99072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000"/>
                </a:solidFill>
                <a:latin typeface="American Typewriter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000"/>
                </a:solidFill>
                <a:latin typeface="American Typewriter"/>
              </a:rPr>
              <a:t>Freedom of the Press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29" name="Picture 8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667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914400" y="152388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ulder"/>
              </a:rPr>
              <a:t>What do each of these pictures demonstrate?</a:t>
            </a:r>
            <a:endParaRPr b="0" lang="en-US" sz="60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3560" cy="34704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2286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Check yes or no</a:t>
            </a: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3" name="Picture 6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156040" cy="17524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3429000" y="1143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Sign here to agree</a:t>
            </a: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5" name="Picture 8" descr="Picture 2"/>
          <p:cNvPicPr/>
          <p:nvPr/>
        </p:nvPicPr>
        <p:blipFill>
          <a:blip r:embed="rId3"/>
          <a:stretch/>
        </p:blipFill>
        <p:spPr>
          <a:xfrm>
            <a:off x="3505320" y="2590920"/>
            <a:ext cx="367668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762120" y="99072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ulder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ulder"/>
              </a:rPr>
              <a:t>Freedom to Petition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667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 rot="16200000">
            <a:off x="1143000" y="-1143000"/>
            <a:ext cx="6858000" cy="9144000"/>
          </a:xfrm>
          <a:prstGeom prst="rect">
            <a:avLst/>
          </a:prstGeom>
          <a:ln w="0">
            <a:noFill/>
          </a:ln>
        </p:spPr>
      </p:pic>
      <p:cxnSp>
        <p:nvCxnSpPr>
          <p:cNvPr id="339" name="AutoShape 13"/>
          <p:cNvCxnSpPr/>
          <p:nvPr/>
        </p:nvCxnSpPr>
        <p:spPr>
          <a:xfrm>
            <a:off x="4495320" y="1257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AutoShape 14"/>
          <p:cNvCxnSpPr/>
          <p:nvPr/>
        </p:nvCxnSpPr>
        <p:spPr>
          <a:xfrm>
            <a:off x="4495320" y="1257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1" name="Text Box 16"/>
          <p:cNvSpPr/>
          <p:nvPr/>
        </p:nvSpPr>
        <p:spPr>
          <a:xfrm>
            <a:off x="1828800" y="3808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R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eligion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1752480" y="14479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A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ssemble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1752480" y="25146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P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etition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371600" y="35812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P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ress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5" name="Text Box 20"/>
          <p:cNvSpPr/>
          <p:nvPr/>
        </p:nvSpPr>
        <p:spPr>
          <a:xfrm>
            <a:off x="1600200" y="46162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S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peech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5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7778880" cy="1152720"/>
          </a:xfrm>
          <a:prstGeom prst="rect">
            <a:avLst/>
          </a:prstGeom>
          <a:ln w="0">
            <a:noFill/>
          </a:ln>
        </p:spPr>
      </p:pic>
      <p:pic>
        <p:nvPicPr>
          <p:cNvPr id="347" name="Subtitle 6" descr=""/>
          <p:cNvPicPr/>
          <p:nvPr/>
        </p:nvPicPr>
        <p:blipFill>
          <a:blip r:embed="rId2"/>
          <a:stretch/>
        </p:blipFill>
        <p:spPr>
          <a:xfrm>
            <a:off x="1365120" y="3730680"/>
            <a:ext cx="64137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4724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arker Felt"/>
              </a:rPr>
              <a:t>What 1</a:t>
            </a:r>
            <a:r>
              <a:rPr b="0" lang="en-US" sz="6000" spc="-1" strike="noStrike" baseline="30000">
                <a:solidFill>
                  <a:srgbClr val="000000"/>
                </a:solidFill>
                <a:latin typeface="Marker Felt"/>
              </a:rPr>
              <a:t>st</a:t>
            </a:r>
            <a:r>
              <a:rPr b="0" lang="en-US" sz="6000" spc="-1" strike="noStrike">
                <a:solidFill>
                  <a:srgbClr val="000000"/>
                </a:solidFill>
                <a:latin typeface="Marker Felt"/>
              </a:rPr>
              <a:t> amendment rights are depicted in each of these pictures?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1793880" cy="2211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Picture 1"/>
          <p:cNvPicPr/>
          <p:nvPr/>
        </p:nvPicPr>
        <p:blipFill>
          <a:blip r:embed="rId3"/>
          <a:stretch/>
        </p:blipFill>
        <p:spPr>
          <a:xfrm>
            <a:off x="380880" y="3886200"/>
            <a:ext cx="4103640" cy="27338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Picture 2"/>
          <p:cNvPicPr/>
          <p:nvPr/>
        </p:nvPicPr>
        <p:blipFill>
          <a:blip r:embed="rId4"/>
          <a:stretch/>
        </p:blipFill>
        <p:spPr>
          <a:xfrm>
            <a:off x="6019920" y="533520"/>
            <a:ext cx="2361960" cy="2209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Picture 3"/>
          <p:cNvPicPr/>
          <p:nvPr/>
        </p:nvPicPr>
        <p:blipFill>
          <a:blip r:embed="rId5"/>
          <a:stretch/>
        </p:blipFill>
        <p:spPr>
          <a:xfrm>
            <a:off x="6324480" y="411480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7315200" cy="2133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That’s Right!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Freedom of Speech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2"/>
          <a:stretch/>
        </p:blipFill>
        <p:spPr>
          <a:xfrm>
            <a:off x="3352680" y="396252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09480" y="2361960"/>
            <a:ext cx="7315200" cy="144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What do each of these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pictures demonstrate?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5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2921040" cy="2336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2095560" cy="2210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"/>
          <p:cNvPicPr/>
          <p:nvPr/>
        </p:nvPicPr>
        <p:blipFill>
          <a:blip r:embed="rId4"/>
          <a:stretch/>
        </p:blipFill>
        <p:spPr>
          <a:xfrm>
            <a:off x="6324480" y="411480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"/>
          <p:cNvPicPr/>
          <p:nvPr/>
        </p:nvPicPr>
        <p:blipFill>
          <a:blip r:embed="rId5"/>
          <a:stretch/>
        </p:blipFill>
        <p:spPr>
          <a:xfrm>
            <a:off x="3200400" y="2133720"/>
            <a:ext cx="23241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315200" cy="1447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Freedom of Religion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2438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438280" y="190512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What do each of these pictures demonstrate?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Picture 6"/>
          <p:cNvPicPr/>
          <p:nvPr/>
        </p:nvPicPr>
        <p:blipFill>
          <a:blip r:embed="rId1"/>
          <a:stretch/>
        </p:blipFill>
        <p:spPr>
          <a:xfrm>
            <a:off x="2286000" y="3048120"/>
            <a:ext cx="5180040" cy="3276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civil disobedience"/>
          <p:cNvPicPr/>
          <p:nvPr/>
        </p:nvPicPr>
        <p:blipFill>
          <a:blip r:embed="rId2"/>
          <a:stretch/>
        </p:blipFill>
        <p:spPr>
          <a:xfrm>
            <a:off x="304920" y="304920"/>
            <a:ext cx="2819160" cy="23619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civil disobedience 2"/>
          <p:cNvPicPr/>
          <p:nvPr/>
        </p:nvPicPr>
        <p:blipFill>
          <a:blip r:embed="rId3"/>
          <a:stretch/>
        </p:blipFill>
        <p:spPr>
          <a:xfrm>
            <a:off x="6553080" y="380880"/>
            <a:ext cx="2210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7:56:58Z</dcterms:created>
  <dc:creator>Mary Lynn Coyne</dc:creator>
  <dc:description/>
  <dc:language>en-US</dc:language>
  <cp:lastModifiedBy>Brittany  Arnold</cp:lastModifiedBy>
  <dcterms:modified xsi:type="dcterms:W3CDTF">2012-04-18T16:16:46Z</dcterms:modified>
  <cp:revision>21</cp:revision>
  <dc:subject/>
  <dc:title>PowerPoint Presentation</dc:title>
</cp:coreProperties>
</file>